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026-CD63-49CC-9A7C-2263D797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05BD-EBFE-41F4-9B17-7AA99AEB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A388-0F3A-48E7-A903-7E4C310D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C59-0332-4653-9CA6-03EB487F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FC3-33F3-470F-8309-C35C969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159-4895-4A27-93FA-360A8C28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463-D7BC-4E50-91A0-0B00E24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289-2CBA-47EF-B9B1-0C199A9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78A-6128-451B-BA0A-BF3F11E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0DE-88BF-412E-B040-4A7D55C7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5BF-43A1-4295-BCD1-3A05F66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DB7-EA9D-4671-A1D9-F17A35E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101-D82E-4A65-A009-F3341CC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B12-16C6-4CA4-AC4A-C91AC6A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BD5-EBF7-489F-8245-5C137DEE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A9CE-F53B-4A5E-87BD-21E0CF1D3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Cisco ASR 9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F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494240" y="3403440"/>
            <a:ext cx="1555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RSP1A-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186080" y="3533760"/>
            <a:ext cx="77184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3-RSP1B-5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86080" y="3533760"/>
            <a:ext cx="77184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SR-903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11680" y="3395520"/>
            <a:ext cx="1520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SR-903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11680" y="3395520"/>
            <a:ext cx="1520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616200" y="534960"/>
            <a:ext cx="191160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16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1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4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8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IMA8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303800" y="3570120"/>
            <a:ext cx="53640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PWR550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368960" y="3551400"/>
            <a:ext cx="40608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A900-PWR550-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368960" y="3551400"/>
            <a:ext cx="406080" cy="1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3-01-11T17:21:16Z</dcterms:modified>
  <cp:revision>5</cp:revision>
  <dc:subject/>
  <dc:title>Slide 1</dc:title>
</cp:coreProperties>
</file>