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01D9-ADBF-4FD5-AFF5-EE6ECAE02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68E4-B52F-4BD2-A802-E310D93D3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779C-BC85-451F-B68F-A9E3C5BC8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AB2-5836-4B87-8D0E-D46DE465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63A-ACB6-4A79-BC34-57AEAB89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FC2-8A56-40FF-83CF-E733C2EB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F24-C345-4500-952A-7904FE5D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DCF-5E1F-4173-B0EB-0EF63416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04A-164E-4917-9DC3-31ECA080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07A-0E6E-4BC0-AB5F-932D4139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A54-7638-4FFF-9440-FDDB1B05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17E-961E-402F-B5C6-383BC227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BD9-459B-4A74-815E-CD04E88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080-32C7-4C04-B0F3-E80BF82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BF5-1E10-475A-A486-2753E3EE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BED9-190F-4398-A997-4AA492279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Calibri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Calibri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Calibri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Calibri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Racks - Cisco R426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Calibri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R42610_Front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Front +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R42610_Front_+_Doo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R42610_Rea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Rear +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R42610_Rear_+_Doo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Gary Klapel</cp:lastModifiedBy>
  <dcterms:modified xsi:type="dcterms:W3CDTF">2011-03-17T17:42:16Z</dcterms:modified>
  <cp:revision>3</cp:revision>
  <dc:subject/>
  <dc:title>Title Slide</dc:title>
</cp:coreProperties>
</file>