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55D1-4193-4E8D-A97E-C94FC3D3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93EC-4864-4B65-B267-5F7C7B4D0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9761-02C5-45BF-AF57-F278828C0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D35-301C-4F3F-8226-668626F4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3A3-142D-46EC-948D-69B98658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907-65BC-4658-95EC-D212B3C6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7F6-97F5-4E26-BF62-70C03CCC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E7A-FE0C-4944-BD20-48C9294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B96-8AF6-486B-855B-7B32E462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09E-2A01-4139-A53D-41780C64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A7A-F0B7-4F96-A2DB-387943E7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0A6-6F19-4110-9154-459D4684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0B9-0055-4154-AECF-B8C8CEBB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E9B-26A5-4511-833E-BC510F4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C83-BA8F-41BB-97C8-A518445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627C-C53C-44F1-A903-E1E52E7943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95b"/>
                </a:solidFill>
                <a:latin typeface="Arial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Switches - Catalyst 29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600200" y="358128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 To see what images are available, set your default view to “Outline” form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F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2960S-48F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L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2960S-48L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L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2960S-48L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C2960S-48T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C2960S-48T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S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C2960S-48TS-S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ic 19in R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Generic_19in_Rack.emf"/>
          <p:cNvPicPr/>
          <p:nvPr/>
        </p:nvPicPr>
        <p:blipFill>
          <a:blip r:embed="rId1"/>
          <a:stretch/>
        </p:blipFill>
        <p:spPr>
          <a:xfrm>
            <a:off x="3887640" y="888840"/>
            <a:ext cx="1368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WS-C2960S_Rear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2960S-24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2960S-24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2960S-24T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2960S-24T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S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2960S-24TS-S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F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2960S-48F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0:31:31Z</dcterms:created>
  <dc:creator>brenewma</dc:creator>
  <dc:description/>
  <dc:language>en-US</dc:language>
  <cp:lastModifiedBy>brenewma</cp:lastModifiedBy>
  <dcterms:modified xsi:type="dcterms:W3CDTF">2011-03-21T20:37:52Z</dcterms:modified>
  <cp:revision>1</cp:revision>
  <dc:subject/>
  <dc:title>Slide 1</dc:title>
</cp:coreProperties>
</file>