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FD2E-39A8-436A-B2BF-68413847D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073E-527B-415C-9E4B-66711A9EF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BB2F-04C9-4A94-8B06-DCEF61A05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6F4A6-8C71-43F9-92E2-651F17AC5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EE9E-9C64-4F35-82FC-160D6C74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A6739-4092-495C-A08A-2CC7446A8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FE5A5-67A0-4CCF-8C2C-67AF86530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854C-D6D3-4D96-9BEB-A81F9534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6DC8-D8B5-4030-BF46-D5371D75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5F05E-E31B-437E-8EDE-4B4F85C8B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D231-79B8-40AD-9F85-55889E195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9A470-BB86-4F24-9782-BF3C87FD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B920-7408-45DA-8D5D-4B13264FE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ADB6-E2B1-4BB3-A627-9F4BB985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919B-508C-4304-9132-B3069C661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2FBA-A673-4BF6-B49C-5368E858BF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Switches - Cisco Nexus 3000</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PQ Rear</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TQ-10GT Front</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TQ-10GT Rear</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548P-10G Front</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548P-10G Rear</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16Q-40GE Front</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16Q-40GE Rear</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48TP Front</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48TP Rear</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PQ Front</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9-28T19:33:04Z</dcterms:modified>
  <cp:revision>4</cp:revision>
  <dc:subject/>
  <dc:title>Slide 1</dc:title>
</cp:coreProperties>
</file>