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023-3843-4BA7-9FF3-814B43CAE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684-E2AF-4E2E-8C75-121523643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512-8434-45AA-BC6F-4C2EA98B5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286-A8B4-4EE1-8429-D2C64135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59E-39BD-4FCB-A7A7-BFEDA3F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B9D-09DF-40B4-893C-57BCD575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902-0FA3-463E-82CC-982611B1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EF8-E622-4C32-B689-B524D2C5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C5C-D719-4DFF-82EE-67A2F17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AD0-1D32-47B6-B3D2-A9CECC6F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06D-DEFF-4478-9C8B-EA750582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D1F-C99F-4468-A431-2D882F44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3DC-ED30-40D7-843B-AE19C6B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857-8D6C-4EF8-8DDE-EAA255E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FAF-6A07-49E6-82C7-5293F7E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C43F-71C5-488A-9792-8324F46D4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Routers-Cisco 3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394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A/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WIC-2A_S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WIC-2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B-S/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WIC-4B-S_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ES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WIC-4ESW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WIC-4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WIC-4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WIC-4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8A/S-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WIC-8A_S-232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ADSLI-B/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WIC-ADSLI-B_S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-1A-OC3-P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NM-1A-OC3-POM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E-WAE-502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NME-WAE-502-K9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SM-Blank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D-ES2-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M-D-ES2-48.emf"/>
          <p:cNvPicPr/>
          <p:nvPr/>
        </p:nvPicPr>
        <p:blipFill>
          <a:blip r:embed="rId1"/>
          <a:stretch/>
        </p:blipFill>
        <p:spPr>
          <a:xfrm>
            <a:off x="4102200" y="3559320"/>
            <a:ext cx="9396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ES3-24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M-ES3-24P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NM-ADP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SM-NM-ADPTR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SRE-900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SM-SRE-900-K9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IC2-4FX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IC2-4FXO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WIC2-1MFT-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VWIC2-1MFT-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392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392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392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392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94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394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394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7T17:46:37Z</dcterms:modified>
  <cp:revision>5</cp:revision>
  <dc:subject/>
  <dc:title>Title Slide</dc:title>
</cp:coreProperties>
</file>