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21F0-D5F6-4D5A-82F6-666622A174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9B5D-C7E3-46B1-99C7-AA0840795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0572-704E-4C71-85C8-869E4AA2D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A9485-4F7F-4B36-BA6E-1F5737263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E0E75-9B22-4761-B7C5-EF4F062E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EE6ED-3143-4D81-85E6-1C46090F2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C4C47-472A-4AEA-A8FD-C19B792F9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FFB6-52A2-4E2D-8767-6142F599F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58FC-F8F2-446A-8ACC-E14F681D4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654F-CA54-4C52-B849-2ECF2549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8C0A-AD37-4CB4-AF61-98CE5279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48094-8A97-4244-8286-1DEA8290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B9A2-5D47-4440-8086-B37C18C6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4B7C-1247-4F26-B92B-21FFCA9D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598F-2ED1-4003-A788-A06FF55DA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40EC-8133-476C-AEF4-3ED64559F3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48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P-FA Front</a:t>
            </a:r>
            <a:endParaRPr b="0" lang="en-US" sz="2400" spc="-1" strike="noStrike">
              <a:solidFill>
                <a:srgbClr val="000000"/>
              </a:solidFill>
              <a:latin typeface="Calibri"/>
            </a:endParaRPr>
          </a:p>
        </p:txBody>
      </p:sp>
      <p:pic>
        <p:nvPicPr>
          <p:cNvPr id="112" name="Picture 2" descr="N5K-C5548P-FA_Front.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P-FA Rear</a:t>
            </a:r>
            <a:endParaRPr b="0" lang="en-US" sz="2400" spc="-1" strike="noStrike">
              <a:solidFill>
                <a:srgbClr val="000000"/>
              </a:solidFill>
              <a:latin typeface="Calibri"/>
            </a:endParaRPr>
          </a:p>
        </p:txBody>
      </p:sp>
      <p:pic>
        <p:nvPicPr>
          <p:cNvPr id="114" name="Picture 2" descr="N5K-C5548P-FA_Rear.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6"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160L3</a:t>
            </a:r>
            <a:endParaRPr b="0" lang="en-US" sz="2400" spc="-1" strike="noStrike">
              <a:solidFill>
                <a:srgbClr val="000000"/>
              </a:solidFill>
              <a:latin typeface="Calibri"/>
            </a:endParaRPr>
          </a:p>
        </p:txBody>
      </p:sp>
      <p:pic>
        <p:nvPicPr>
          <p:cNvPr id="102" name="Picture 2" descr="N55-D160L3.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L2</a:t>
            </a:r>
            <a:endParaRPr b="0" lang="en-US" sz="2400" spc="-1" strike="noStrike">
              <a:solidFill>
                <a:srgbClr val="000000"/>
              </a:solidFill>
              <a:latin typeface="Calibri"/>
            </a:endParaRPr>
          </a:p>
        </p:txBody>
      </p:sp>
      <p:pic>
        <p:nvPicPr>
          <p:cNvPr id="104" name="Picture 2" descr="N55-DL2.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6"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8"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10"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9:08:38Z</dcterms:modified>
  <cp:revision>2</cp:revision>
  <dc:subject/>
  <dc:title>Title Slide</dc:title>
</cp:coreProperties>
</file>