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80A2-2E8C-4F06-B3FA-1EBD58333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3B09-7B44-4FC2-9E4E-74571C909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B8EF-81B8-4440-A017-0EFBE3B85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4AB-3500-41DC-9DD1-F0A1B3AC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C41-F157-4E23-B13F-9F484EE5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6C8B-B6E5-4721-B31E-EEF8197D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6055-488F-4D1B-B5C0-91C4E646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8E5-133F-4C9E-BCAF-60FD3F50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3C4-B6EC-4539-98E8-ABC112DF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12D-BBD5-4E94-A288-930C79B4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3B6-7895-43FF-8380-92B6AEBE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D5F-D82B-41F4-AF45-5A79BF38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D33-4FFB-427E-9540-1B8E813D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BA8-A323-4C53-A8C1-FAA31324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72A-564F-4D8F-B3FF-099872F3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173D-7BD4-4A93-998B-2BD88DC06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Optical Networking-Cisco C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20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5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600 Cov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808440" y="3192480"/>
            <a:ext cx="15271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60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08440" y="3192480"/>
            <a:ext cx="15271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PTF256-10Gx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048200" y="3567240"/>
            <a:ext cx="10476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PTM-10Gx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048200" y="3567240"/>
            <a:ext cx="10476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618000" y="531720"/>
            <a:ext cx="1908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2-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491000" y="3468600"/>
            <a:ext cx="16200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2-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486320" y="3468600"/>
            <a:ext cx="17136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6-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300560" y="3541680"/>
            <a:ext cx="54288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6-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300560" y="3541680"/>
            <a:ext cx="54288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-TNC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048200" y="3567240"/>
            <a:ext cx="10476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-TSC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048200" y="3567240"/>
            <a:ext cx="10476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200 Cov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2-07-26T18:35:58Z</dcterms:modified>
  <cp:revision>5</cp:revision>
  <dc:subject/>
  <dc:title>Slide 1</dc:title>
</cp:coreProperties>
</file>