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03EE-8947-46E2-83A5-CF21B7871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A49-7FD6-4A78-9B5C-984D31427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7F5-52DA-48BF-A456-334441E61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CF1-71ED-411D-9B63-2B888BEA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A3E-8B17-4BEC-91F8-0A7D623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C22-2B62-45BC-8505-9E4E2E8A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043-FE06-47D0-9C50-F3B1DF78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402-8B95-4CDF-A42C-EE135764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84F-E0A2-4F06-B409-8C886D11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ED4-DCE4-4D39-B689-C41A480B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4DD-7E01-4524-8A86-25AA8EAC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A80-0F14-452D-8D73-BADE5C0A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8C6-D026-4432-B045-C638E44A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D95-0A9B-4395-AF2A-0C8D3A35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C31-4FDF-4839-8F3E-B79D7CE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2A2-BE20-45BF-8DEE-EED33B070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Switches-Catalyst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4948E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4948E-F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4948E-F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4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X4904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8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X4908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20-GB-RJ45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X4920-GB-RJ45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4948-10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S-4948-10GE.emf"/>
          <p:cNvPicPr/>
          <p:nvPr/>
        </p:nvPicPr>
        <p:blipFill>
          <a:blip r:embed="rId1"/>
          <a:stretch/>
        </p:blipFill>
        <p:spPr>
          <a:xfrm>
            <a:off x="4083120" y="3562200"/>
            <a:ext cx="977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4900M.emf"/>
          <p:cNvPicPr/>
          <p:nvPr/>
        </p:nvPicPr>
        <p:blipFill>
          <a:blip r:embed="rId1"/>
          <a:stretch/>
        </p:blipFill>
        <p:spPr>
          <a:xfrm>
            <a:off x="4084560" y="3510000"/>
            <a:ext cx="97488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 (r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4900M_(rear).emf"/>
          <p:cNvPicPr/>
          <p:nvPr/>
        </p:nvPicPr>
        <p:blipFill>
          <a:blip r:embed="rId1"/>
          <a:stretch/>
        </p:blipFill>
        <p:spPr>
          <a:xfrm>
            <a:off x="4076640" y="3510000"/>
            <a:ext cx="9907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4948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4948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4948_Front.emf"/>
          <p:cNvPicPr/>
          <p:nvPr/>
        </p:nvPicPr>
        <p:blipFill>
          <a:blip r:embed="rId1"/>
          <a:stretch/>
        </p:blipFill>
        <p:spPr>
          <a:xfrm>
            <a:off x="4029120" y="353700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4948E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2T22:14:03Z</dcterms:modified>
  <cp:revision>5</cp:revision>
  <dc:subject/>
  <dc:title>Title Slide</dc:title>
</cp:coreProperties>
</file>