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2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1.wmf" ContentType="image/x-wmf"/>
  <Override PartName="/ppt/media/image29.wmf" ContentType="image/x-wmf"/>
  <Override PartName="/ppt/media/image32.wmf" ContentType="image/x-wmf"/>
  <Override PartName="/ppt/media/image37.wmf" ContentType="image/x-wmf"/>
  <Override PartName="/ppt/media/image7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BDBE4-0554-459E-9377-17F8B1A961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5768E-B7B3-42D1-959C-C3A8E394D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476C8-A8DE-49E2-9769-EE220F55E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6B3B-8A74-472A-91D9-F5591D6D1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59D8-E2CD-4FED-83C6-26F33E30F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3117-8913-48C8-B8D2-04DCE369B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270C-D11C-4AC0-ACE7-0119A2AD8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1082-EA73-45DF-B72F-BA0671033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69AA-FDBB-458C-8538-7DA44A124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1935-ADCF-4C87-8387-DB7A41201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B188-B3FC-4673-AAB6-0117AC159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33F8-B0E1-41C0-BA67-65B9522DA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7251-B20F-4F71-B861-3E4C834B8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0FDA-4B98-4D6D-B43F-C1EBF1A57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2D8F-C7F6-4694-92D0-4C6173AD5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shapesource.com/" TargetMode="External"/><Relationship Id="rId5" Type="http://schemas.openxmlformats.org/officeDocument/2006/relationships/hyperlink" Target="mailto:support@visimation.com" TargetMode="External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3DE5D-352D-4A39-A1DA-6748D350A5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VisioZone Header.jpg"/>
          <p:cNvPicPr/>
          <p:nvPr/>
        </p:nvPicPr>
        <p:blipFill>
          <a:blip r:embed="rId2"/>
          <a:srcRect l="0" t="87281" r="0" b="0"/>
          <a:stretch/>
        </p:blipFill>
        <p:spPr>
          <a:xfrm>
            <a:off x="0" y="0"/>
            <a:ext cx="9144000" cy="844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ShapeSource Logo 150.jpg"/>
          <p:cNvPicPr/>
          <p:nvPr/>
        </p:nvPicPr>
        <p:blipFill>
          <a:blip r:embed="rId3"/>
          <a:stretch/>
        </p:blipFill>
        <p:spPr>
          <a:xfrm>
            <a:off x="7086600" y="6172200"/>
            <a:ext cx="1905120" cy="457200"/>
          </a:xfrm>
          <a:prstGeom prst="rect">
            <a:avLst/>
          </a:prstGeom>
          <a:ln w="0">
            <a:noFill/>
          </a:ln>
        </p:spPr>
      </p:pic>
      <p:sp>
        <p:nvSpPr>
          <p:cNvPr id="43" name="Title 1"/>
          <p:cNvSpPr/>
          <p:nvPr/>
        </p:nvSpPr>
        <p:spPr>
          <a:xfrm>
            <a:off x="77760" y="6218280"/>
            <a:ext cx="6094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genda-MediumCondensed"/>
                <a:ea typeface="Arial"/>
                <a:hlinkClick r:id="rId4"/>
              </a:rPr>
              <a:t>www.shapesource.com</a:t>
            </a:r>
            <a:r>
              <a:rPr b="0" lang="en-US" sz="14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  </a:t>
            </a:r>
            <a:r>
              <a:rPr b="0" lang="en-US" sz="1600" spc="-1" strike="noStrike" baseline="14000">
                <a:solidFill>
                  <a:srgbClr val="2f5ba9"/>
                </a:solidFill>
                <a:latin typeface="Agenda-MediumCondensed"/>
                <a:ea typeface="Arial"/>
              </a:rPr>
              <a:t>■</a:t>
            </a:r>
            <a:r>
              <a:rPr b="0" lang="en-US" sz="14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 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  <a:ea typeface="Arial"/>
              </a:rPr>
              <a:t>+1 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</a:rPr>
              <a:t>425-369-6000 </a:t>
            </a:r>
            <a:r>
              <a:rPr b="0" lang="en-US" sz="1400" spc="-1" strike="noStrike" baseline="14000">
                <a:solidFill>
                  <a:srgbClr val="2f5ba9"/>
                </a:solidFill>
                <a:latin typeface="Agenda-MediumCondensed"/>
                <a:ea typeface="Arial"/>
              </a:rPr>
              <a:t>■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</a:rPr>
              <a:t>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Agenda-MediumCondensed"/>
                <a:hlinkClick r:id="rId5"/>
              </a:rPr>
              <a:t>support@visimation.com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C:\Documents and Settings\Liz.VISIMATI-BA736C\My Documents\_MARKETING\Graphics\2010 Logo Change\ProShapes\ProShapesArt\ProShapesArt\HiRes\ProShapesArt.emf"/>
          <p:cNvPicPr/>
          <p:nvPr/>
        </p:nvPicPr>
        <p:blipFill>
          <a:blip r:embed="rId6"/>
          <a:stretch/>
        </p:blipFill>
        <p:spPr>
          <a:xfrm>
            <a:off x="914400" y="125280"/>
            <a:ext cx="2992320" cy="484200"/>
          </a:xfrm>
          <a:prstGeom prst="rect">
            <a:avLst/>
          </a:prstGeom>
          <a:ln w="0">
            <a:noFill/>
          </a:ln>
        </p:spPr>
      </p:pic>
      <p:sp>
        <p:nvSpPr>
          <p:cNvPr id="45" name="Manuf"/>
          <p:cNvSpPr/>
          <p:nvPr/>
        </p:nvSpPr>
        <p:spPr>
          <a:xfrm>
            <a:off x="3809880" y="517680"/>
            <a:ext cx="3200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95b"/>
                </a:solidFill>
                <a:latin typeface="Agenda-BoldCondensed"/>
                <a:ea typeface="Arial"/>
              </a:rPr>
              <a:t>Cisco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roduct"/>
          <p:cNvSpPr/>
          <p:nvPr/>
        </p:nvSpPr>
        <p:spPr>
          <a:xfrm>
            <a:off x="6934320" y="363960"/>
            <a:ext cx="2209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Switches-Cisco Nexus 7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6854760" y="519120"/>
            <a:ext cx="2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1371600" y="31240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genda-Medium"/>
              </a:rPr>
              <a:t>Enhanced Metafile (emf) Vector 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7K-AC-7.5KW-INT/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4402080" y="3270240"/>
            <a:ext cx="33984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7K-C7009-FAB-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4368960" y="3533760"/>
            <a:ext cx="406080" cy="1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7K-C7010 - 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3881520" y="2181240"/>
            <a:ext cx="138096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7K-C7010 -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3881520" y="2181240"/>
            <a:ext cx="138096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7K-C7010-FAB-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3975120" y="3533760"/>
            <a:ext cx="1193760" cy="1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7K-C7010-FAB-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3951360" y="3533760"/>
            <a:ext cx="1241280" cy="1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7K-C7010-FAN-F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4272120" y="3359160"/>
            <a:ext cx="599760" cy="5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7K-C7010-FAN-S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3897360" y="3522600"/>
            <a:ext cx="1349280" cy="1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7K-C7018 -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3881520" y="1905120"/>
            <a:ext cx="13809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7K-C7018 -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3881520" y="1905120"/>
            <a:ext cx="13809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1"/>
          <p:cNvSpPr/>
          <p:nvPr/>
        </p:nvSpPr>
        <p:spPr>
          <a:xfrm>
            <a:off x="609480" y="1019160"/>
            <a:ext cx="7772400" cy="57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genda-Bold"/>
              </a:rPr>
              <a:t>Using These 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is PowerPoint file contains Enhanced Metafile (emf) vector images of the product line noted on the title pa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Each slide contains one Enhanced Metafile (emf) vector image, the manufacturer, name of the product line, and the product number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e title on each slide is the product number and it contains a hyperlink to the manufacturer’s product page or home page for more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o navigate to a particular product number, select the Outline view to show the titles of all sli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If you don’t have Microsoft Visio on your computer, you can ignore the vss file or Visio Stencil included in the zip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All images in this PowerPoint are created using the same relative scale so the images will fit together when assembled on a docu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PowerPoint does not have the concept of “drawing scale” so the image scale does not relate to standard scales, i.e. 1”=1’-0”, 1:10, etc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You can resize an image by dragging on the sizing handles to make it larger or small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Be sure to only resize using the corner handles to maintain the proper aspect ratio, i.e. height to wid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ese are vector images that will remain clear as the size incre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o copy an image to another slide or to a document in another application, select image and use any of several standard Windows Copy/Paste meth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genda-Medium"/>
              </a:rPr>
              <a:t>Note:</a:t>
            </a: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  if you have assigned a hyperlink to the image, the Hyperlink data will not transfer when copying an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ese Enhanced Metafile (emf) vector images can be used with any Windows based graphic software that supports .emf im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7K-C7018-FAB-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4486320" y="2746440"/>
            <a:ext cx="17136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7K-C7018-FAB-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4486320" y="2741760"/>
            <a:ext cx="17136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7K-DC-3K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4397400" y="3538440"/>
            <a:ext cx="349200" cy="1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7K-F132XP-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3951360" y="3533760"/>
            <a:ext cx="1241280" cy="1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7K-F248XP-2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3951360" y="3533760"/>
            <a:ext cx="1241280" cy="1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7K-F248XP-25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3951360" y="3533760"/>
            <a:ext cx="1241280" cy="1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7K-F248XT-2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3951360" y="3533760"/>
            <a:ext cx="1241280" cy="1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7K-F248XT-25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3951360" y="3533760"/>
            <a:ext cx="1241280" cy="1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7K-M108X2-12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3951360" y="3533760"/>
            <a:ext cx="1241280" cy="1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7K-M132XP-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4486320" y="3006720"/>
            <a:ext cx="17136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7004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3813120" y="3132000"/>
            <a:ext cx="151776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7K-M132XP-12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3951360" y="3533760"/>
            <a:ext cx="1241280" cy="1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7K-M148GS-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4486320" y="3006720"/>
            <a:ext cx="17136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7K-M148GS-11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3951360" y="3533760"/>
            <a:ext cx="1241280" cy="1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7K-M148GT-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4486320" y="3006720"/>
            <a:ext cx="17136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7K-M148GT-11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3951360" y="3533760"/>
            <a:ext cx="1241280" cy="1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7K-M202CF-22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3951360" y="3533760"/>
            <a:ext cx="1241280" cy="1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7K-M206FQ-23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3951360" y="3533760"/>
            <a:ext cx="1241280" cy="1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7K-M224XP-23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3951360" y="3533760"/>
            <a:ext cx="1241280" cy="1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7K-SUP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3951360" y="3554280"/>
            <a:ext cx="1241280" cy="1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7K-SUP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3951360" y="3554280"/>
            <a:ext cx="1241280" cy="1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7009 Base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803760" y="2631960"/>
            <a:ext cx="153648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7K-SUP2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3951360" y="3554280"/>
            <a:ext cx="1241280" cy="1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Cisco R42610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3618000" y="531720"/>
            <a:ext cx="1908000" cy="61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7009 Base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3813120" y="2631960"/>
            <a:ext cx="151776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7009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3803760" y="2631960"/>
            <a:ext cx="153648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7009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3803760" y="2631960"/>
            <a:ext cx="153648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7K-AC-3K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4397400" y="3538440"/>
            <a:ext cx="349200" cy="1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7K-AC-6.0K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4218120" y="3436920"/>
            <a:ext cx="707760" cy="3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1T17:18:29Z</dcterms:created>
  <dc:creator>Lizl</dc:creator>
  <dc:description/>
  <dc:language>en-US</dc:language>
  <cp:lastModifiedBy>Brett</cp:lastModifiedBy>
  <dcterms:modified xsi:type="dcterms:W3CDTF">2012-09-28T00:43:44Z</dcterms:modified>
  <cp:revision>5</cp:revision>
  <dc:subject/>
  <dc:title>Slide 1</dc:title>
</cp:coreProperties>
</file>