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D7B0-35BB-4D30-A772-EADF888AC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1D05-4713-4D43-BFD9-89155DF4E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260C-FF0E-4C87-98C2-1ADDA87D2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1F7-1ACF-4416-8E8A-E3C571A0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91F-7677-43DD-BDF8-E58E6EF3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790-A2BD-4C24-878D-7F809F48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351-FA0C-4F3B-B12C-B4E2FF37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B0B-5461-4C73-AE68-DCC5ED9A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357-DD49-4F00-9372-AE2D47B4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765-52D2-43F9-80B1-11E5B3FE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239-CCA5-4F55-8CBA-DE08355E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E4B-1CD2-41B9-ABD7-6BD5EC4C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A09-DA82-446D-AED2-57120B1F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91A-A206-4FDF-A126-C8B38728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DF0-80E1-485E-9E25-9AF08FFC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8544-EF51-48F6-B647-73561D608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Calibri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Calibri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Calibri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Calibri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Racks - Cisco R426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Calibri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R42610_Front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Front + 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R42610_Front_+_Doo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R42610_Rea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Rear + 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R42610_Rear_+_Doo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Gary Klapel</cp:lastModifiedBy>
  <dcterms:modified xsi:type="dcterms:W3CDTF">2011-03-17T17:42:16Z</dcterms:modified>
  <cp:revision>3</cp:revision>
  <dc:subject/>
  <dc:title>Title Slide</dc:title>
</cp:coreProperties>
</file>