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A2D3-B532-41CB-B435-9354A6A50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4EB3-9906-4347-B907-5D60AE28B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C45B-B701-42AC-B267-8739BC0DC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67244-743C-4D89-9525-41BA156BC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8EE4-8F94-4AFF-9B37-05264EDF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08BB3-B510-405B-BA64-9068DF853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C8E61-1788-4D8D-8F17-F86A05865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695A3-B6F6-4561-8CA3-2362B681C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8E08D-04A2-405B-9102-B947A674F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4994E-3521-41DD-A4B1-C4618B94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CC604-F4B0-4AF3-BB54-65839C20B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FE353-A349-4299-9704-D9A510505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0103-31B6-401F-A82C-3970C3CBB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7000A-55C8-4494-853C-9BCE755D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C870E-6F60-4998-8DD8-E164CF066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5967-1A14-496C-9F79-4403B09579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Switches-Cisco Nexus 2000</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C2224TP-1GE</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C2232PP-10GE</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C2232TM-10GE</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C2248TP-1GE</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C2248TP-E-1GE</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neric 19in Rack</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3759120" y="331920"/>
            <a:ext cx="1625760" cy="657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B22DELL-P</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4511520" y="3184560"/>
            <a:ext cx="120960" cy="86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B22FTS-P</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4264200" y="3559320"/>
            <a:ext cx="615600" cy="12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B22HP-P</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4264200" y="3559320"/>
            <a:ext cx="615600" cy="12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2K-C2148T-1G E Front</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3881520" y="3533760"/>
            <a:ext cx="1380960" cy="17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2K-C2148T-1G Rear</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3881520" y="3533760"/>
            <a:ext cx="1380960" cy="17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9-28T19:00:57Z</dcterms:modified>
  <cp:revision>4</cp:revision>
  <dc:subject/>
  <dc:title>Slide 1</dc:title>
</cp:coreProperties>
</file>