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5BA7-62B4-4A49-A8C2-F2739CA0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C8A-BEEF-4548-B25F-AFBAF493A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DB12-76D9-4F92-A427-1AABD4D6A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DF1-8FC3-4BE5-83D4-B95B39BD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D9E-961D-41D0-B0E5-21C3572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58E-E6B5-4925-B9FD-E3538A48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726-4D3F-4A5E-8CE7-1A8405FD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221-79CC-4F9E-8ACD-63A849C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816-0323-4D1A-893C-F12A4E3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430-2952-471E-BFE0-2D32B255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63-C7D8-445A-B0A4-99258F4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487-18CF-4916-9449-16AD604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2D9-FFF6-4510-A322-D21DEB6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C41-9387-4357-8367-11BD96FF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07F-C426-47B9-A151-CDCC829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FBB-A61B-4718-BE23-14324EC83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  <a:ea typeface="Arial"/>
              </a:rPr>
              <a:t>Switches - Catalyst 29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00200" y="358128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 To see what images are available, set your default view to “Outline” form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2960S-48F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2960S-48L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L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2960S-48L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C2960S-48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C2960S-48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C2960S-48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ic 19in 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eneric_19in_Rack.emf"/>
          <p:cNvPicPr/>
          <p:nvPr/>
        </p:nvPicPr>
        <p:blipFill>
          <a:blip r:embed="rId1"/>
          <a:stretch/>
        </p:blipFill>
        <p:spPr>
          <a:xfrm>
            <a:off x="3887640" y="888840"/>
            <a:ext cx="1368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WS-C2960S_Rear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2960S-24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P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2960S-24P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2960S-24T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2960S-24TS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24TS-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2960S-24TS-S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2960S-48FPD-L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2960S-48FPD-L_Front.emf"/>
          <p:cNvPicPr/>
          <p:nvPr/>
        </p:nvPicPr>
        <p:blipFill>
          <a:blip r:embed="rId1"/>
          <a:stretch/>
        </p:blipFill>
        <p:spPr>
          <a:xfrm>
            <a:off x="3932280" y="3548160"/>
            <a:ext cx="1279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0:31:31Z</dcterms:created>
  <dc:creator>brenewma</dc:creator>
  <dc:description/>
  <dc:language>en-US</dc:language>
  <cp:lastModifiedBy>brenewma</cp:lastModifiedBy>
  <dcterms:modified xsi:type="dcterms:W3CDTF">2011-03-21T20:37:52Z</dcterms:modified>
  <cp:revision>1</cp:revision>
  <dc:subject/>
  <dc:title>Slide 1</dc:title>
</cp:coreProperties>
</file>