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BD27-72E5-487B-948D-3F0C50A499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51FE-804F-4808-8DDF-AD0F2FFB9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FA00-D83C-4547-B0D0-1E6FCFCAD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4E17F-FE42-4F62-B84A-294D9AF5A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F443-323E-4597-9083-643AF602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969E8-8EE7-4AB0-9904-BE7D6FB29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D1C6-6584-4C13-B240-2FDF335B0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B0E3-C3C1-4F73-BE2E-EB3C9086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FD26-278D-44C1-A9F5-28612B6F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5D2B-9E6D-41DC-87D0-9975935F8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5A93-837E-4E62-BCD3-339BFAF3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0ED5D-147D-4809-93A5-FB84A4FC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985B-6B4F-4B0F-902F-E966B357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C1847-4016-4161-9407-7299FB3D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031C-2C7C-41CD-9E5C-0E8B6E6EC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E2CA-98F2-4BFB-8AC8-4EE12696FE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48U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UP-FA Front</a:t>
            </a:r>
            <a:endParaRPr b="0" lang="en-US" sz="2400" spc="-1" strike="noStrike">
              <a:solidFill>
                <a:srgbClr val="000000"/>
              </a:solidFill>
              <a:latin typeface="Calibri"/>
            </a:endParaRPr>
          </a:p>
        </p:txBody>
      </p:sp>
      <p:pic>
        <p:nvPicPr>
          <p:cNvPr id="112" name="Picture 2" descr="N5K-C5548UP-FA_Front.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UP-FA Rear</a:t>
            </a:r>
            <a:endParaRPr b="0" lang="en-US" sz="2400" spc="-1" strike="noStrike">
              <a:solidFill>
                <a:srgbClr val="000000"/>
              </a:solidFill>
              <a:latin typeface="Calibri"/>
            </a:endParaRPr>
          </a:p>
        </p:txBody>
      </p:sp>
      <p:pic>
        <p:nvPicPr>
          <p:cNvPr id="114" name="Picture 2" descr="N5K-C5548UP-FA_Rear.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6"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160L3</a:t>
            </a:r>
            <a:endParaRPr b="0" lang="en-US" sz="2400" spc="-1" strike="noStrike">
              <a:solidFill>
                <a:srgbClr val="000000"/>
              </a:solidFill>
              <a:latin typeface="Calibri"/>
            </a:endParaRPr>
          </a:p>
        </p:txBody>
      </p:sp>
      <p:pic>
        <p:nvPicPr>
          <p:cNvPr id="102" name="Picture 2" descr="N55-D160L3.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L2</a:t>
            </a:r>
            <a:endParaRPr b="0" lang="en-US" sz="2400" spc="-1" strike="noStrike">
              <a:solidFill>
                <a:srgbClr val="000000"/>
              </a:solidFill>
              <a:latin typeface="Calibri"/>
            </a:endParaRPr>
          </a:p>
        </p:txBody>
      </p:sp>
      <p:pic>
        <p:nvPicPr>
          <p:cNvPr id="104" name="Picture 2" descr="N55-DL2.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6"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8"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10"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8:49:39Z</dcterms:modified>
  <cp:revision>2</cp:revision>
  <dc:subject/>
  <dc:title>Title Slide</dc:title>
</cp:coreProperties>
</file>