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074C-BC90-4F05-9054-CAE7DB7AC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0FAE-8847-462B-A738-AE1BBEFF0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6728-F8E2-42B2-9EA2-161E420A3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EC3-4D7E-4057-AE63-1B4F3CD0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42C-1D9E-4782-B249-B0A8315D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7A0-D934-43AB-8700-AC075CA6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42B-6753-48BB-AEBC-F2CEDD9B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785-EDE3-429D-AD3D-8FF8B5B6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FF0-0317-440E-99D2-15588E4A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CA4-B686-4F1D-BA74-A8E02481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2FF-7015-4DE8-ABB0-D49EAF63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38B-524A-4626-977E-6074E9B2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E19-9E81-4123-8DFD-0FB675DE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5A4-4442-4885-84D3-A9ADDA4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332-EDAA-42CA-89C5-27C1E1AD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F6BB-0AAF-447F-B785-635E3C873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C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20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5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600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08440" y="3192480"/>
            <a:ext cx="15271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60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08440" y="3192480"/>
            <a:ext cx="15271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PTF256-10Gx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PTM-10Gx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2-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491000" y="3468600"/>
            <a:ext cx="1620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2-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486320" y="3468600"/>
            <a:ext cx="1713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6-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300560" y="3541680"/>
            <a:ext cx="542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6-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300560" y="3541680"/>
            <a:ext cx="542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-TNC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-TSC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200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5:58Z</dcterms:modified>
  <cp:revision>5</cp:revision>
  <dc:subject/>
  <dc:title>Slide 1</dc:title>
</cp:coreProperties>
</file>