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9AE4-D233-4581-A065-B1B4A873EC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A2CAF-30B6-4468-A56F-09AE63966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453C-1520-4010-A88A-FF50A7048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A3B85-3E55-4306-B022-07461EBA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16ABE-552C-443B-A7B5-9E9010C74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BE0C5-15B2-4DAF-BB51-C8F68A407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F34F2-3FF2-4551-9EFC-E3F1351EC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1C224-0D58-4785-BD78-55FA26126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57640-1A2A-4F36-B44E-6B7306AE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777CE-978A-4D38-B2CD-D4C58893F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1C5EA-CB9F-41B4-96CD-EA6982777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90623-B280-4148-B494-668D1B0A3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DA043-1E1D-4D5D-A5EE-07D2A01D8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C2D24-F3F7-40CB-810D-479CDC57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947F9-6F22-467B-840B-A5B043EA7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5FB19-E0A9-4861-BBE4-2A71649901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Switches-Cisco Nexus 2000</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24TP-1G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32PP-10GE</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32TM-10GE</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48TP-1G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C2248TP-E-1GE</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3813120" y="3533760"/>
            <a:ext cx="1517760" cy="1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eneric 19in Rack</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3759120" y="331920"/>
            <a:ext cx="1625760" cy="657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DELL-P</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11520" y="3184560"/>
            <a:ext cx="120960" cy="86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FTS-P</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264200" y="3559320"/>
            <a:ext cx="615600" cy="12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N2K-B22HP-P</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264200" y="3559320"/>
            <a:ext cx="615600" cy="12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2K-C2148T-1G E Front</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3881520" y="3533760"/>
            <a:ext cx="1380960" cy="17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2K-C2148T-1G Rear</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3881520" y="3533760"/>
            <a:ext cx="1380960" cy="17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9-28T19:00:57Z</dcterms:modified>
  <cp:revision>4</cp:revision>
  <dc:subject/>
  <dc:title>Slide 1</dc:title>
</cp:coreProperties>
</file>