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4959-E64F-4EF1-90EC-7F3714E1E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99A-3A49-4A50-9DFC-671592114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01AB-9B4A-4A63-8F4D-78CE22111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FF3-9651-46BF-9DD3-4B2DD2FA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CA7-8028-499D-B49D-FED427D9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997-C6EB-4364-AD08-77CD9333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C35-A064-4A05-BB12-F0F8F600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2E7-00B2-4C70-8791-3934FD5C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1DE-CAF5-46F8-BDBB-2F7B30D8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EE1-FD69-4B1E-86FF-2890389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FF2-0FB3-487B-AA6C-AC7DB84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99D-B9CF-4FD0-9401-36159F76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C98-B2CA-4827-8F24-02C3E28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F8F-8CDE-4267-8FBA-CBB4BB4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463-552E-440E-8FD2-632F25F3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78E-5FA4-4DA0-AF10-FA0C1F07E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Routers-Cisco 3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394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A/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WIC-2A_S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WIC-2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B-S/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WIC-4B-S_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ES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WIC-4ESW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WIC-4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WIC-4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WIC-4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8A/S-2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WIC-8A_S-232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ADSLI-B/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WIC-ADSLI-B_S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-1A-OC3-P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NM-1A-OC3-POM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E-WAE-502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NME-WAE-502-K9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SM-Blank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D-ES2-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SM-D-ES2-48.emf"/>
          <p:cNvPicPr/>
          <p:nvPr/>
        </p:nvPicPr>
        <p:blipFill>
          <a:blip r:embed="rId1"/>
          <a:stretch/>
        </p:blipFill>
        <p:spPr>
          <a:xfrm>
            <a:off x="4102200" y="3559320"/>
            <a:ext cx="9396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ES3-24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SM-ES3-24P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NM-ADPT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SM-NM-ADPTR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SRE-900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SM-SRE-900-K9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IC2-4FX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VIC2-4FXO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WIC2-1MFT-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VWIC2-1MFT-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392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392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392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392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394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394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394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7T17:46:37Z</dcterms:modified>
  <cp:revision>5</cp:revision>
  <dc:subject/>
  <dc:title>Title Slide</dc:title>
</cp:coreProperties>
</file>